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8760" y="632160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Strategic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18320" y="62974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pring 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32120" y="62485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83BE-DA84-49BA-9E24-84CA207492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86680" y="587520"/>
            <a:ext cx="56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trateg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mputing and Commun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A 290D, EECS 201, IS 2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pring 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d G. Messerschmi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 R. Var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ortance of non-technical factors (con’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ing industry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rtical stovepipe to horizontal laye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asing frag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eater role of start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ategic importance of intellectual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aboration, consortia, standardization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ing nature of the jo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eryone must be flexible, broad, interdisciplinary, and strategic in small compan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jor top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ing industry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yers and s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obstacles to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ization, alliances, consor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lectual pro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 inter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udent responsibil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te in class discussion (1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te in online forums (1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group projects (6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ose a product category or industry and apply strategic analysis from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 both sides of a controversial iss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example” assignments (1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ings (books, Web, oth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assroom activ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s on major topics of the 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rely heavily on rea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 of examples and controversial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lemented by online fo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side speakers (faculty, indust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deb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ministrativ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BA class represen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http://www.sims.berkeley.edu/courses/is224/s99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 for announc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s224@sims.berkeley.edu: mailing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forum will be set up on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.delphi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project and speaker (faculty, industry) topic ideas wel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vation and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 of course 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respon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urse materia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piro and Varian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formation Rules, A Strategic Guide to the Network Econo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erschmitt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worked Applications: A Guide to the New Computing Infrastruc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www.sims.berkeley.edu/courses/is224/s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computer science stud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cessful product positioning and design requires consideration of many important non-technical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economics, law, polic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 stud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uter and communication technologies have some special issues and challenges for high-tech mana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tivation (con’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management stud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derable overlap of information and software in management challe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ology is infrastructure for  information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eciate and understand non-technical issues 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ise from special characteristics of high-t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ve their imprint on the indu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 product positioning and des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eciate strategies for success in information and high-tech 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ing together computer science, engineering, business, and information management students to learn from one an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ain focused on the interaction of technical and non-technical factors (rather than either in isol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ing bundled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 and other infra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creasing importance of non-technical factor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6960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ingly the focus is more on “what to do” rather than “how to do i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are architects and civil engine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commercial (market driven), less milit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regulation of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rgence of communications and computing, affecting both industries irrevoca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cus on standardization in computing due to enterprise and commerce 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cus on competition and rapid innovation in commun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ortance of non-technical factors (con’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6960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nomics effec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ormation and software econom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twork effects, lock-in, winner-take-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en systems and standard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ing role of 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ulation and antitru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cryption, priva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earch 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llectual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9:43:01Z</dcterms:created>
  <dc:creator>David G. Messerschmitt</dc:creator>
  <dc:description/>
  <dc:language>en-US</dc:language>
  <cp:lastModifiedBy>Hal R. Varian</cp:lastModifiedBy>
  <cp:lastPrinted>1998-01-21T05:26:02Z</cp:lastPrinted>
  <dcterms:modified xsi:type="dcterms:W3CDTF">1999-01-20T17:12:26Z</dcterms:modified>
  <cp:revision>43</cp:revision>
  <dc:subject/>
  <dc:title>EE290X, CS294-6, BA 296.5 Strategic Computing and Communications Technology</dc:title>
</cp:coreProperties>
</file>